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985-6785-4657-921A-FF4C6397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9B4-4170-457D-9235-4E57A5C2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CA6-A389-4DF3-9BC2-39F454E1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75E-D4E8-44BB-99A1-722AE93A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8084-D727-48A4-A275-786E0816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360A-2BEC-4AF4-8CA7-2BB1BF6A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B5A5-6B6D-45EF-8896-D378836A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DECA-F016-48F5-82D5-8581F993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1DEB-31BC-4AFE-90F5-9A61758D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12A8-C41D-4305-A3E7-C7AE2BA5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4FE8-0FC1-4D56-9293-9DA66208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A45-D665-4EAC-85A8-22896167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DE8C-7578-4EE5-9C67-E44A4676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AD34-8C3A-4DD5-8B82-D925FCF5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B4EF-7DBE-48DA-8A54-55B91F78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77E8-DB57-4D1F-8AAB-539DE3A8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2257-44F3-4208-9EB7-3ED83C0B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EFF-DFA2-4107-9644-2010FE4E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99B-E6BD-4946-8964-EB93984A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A17-9AC0-43D7-872F-4551F82F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AFA-DDE8-4E17-A3B7-9D5ABF94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96A-4B7E-46E5-8506-494580F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E19-2DD6-463F-A896-E595A4C1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DAB-400C-412B-8A84-3E7F210D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0537-34C6-4EFC-ACAC-553E717040BC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8233-4B89-4706-94B5-1F093BEF8F35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Movie/6-12/Session 3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video effects and audio have enhanced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Why did you make these particular choices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d2204"/>
                </a:solidFill>
                <a:latin typeface="Arial"/>
              </a:rPr>
              <a:t>We have observed how title sequences, video effects, and transitions can add to or subtract from the overall impact of a movie.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import audio and add audio effects in iMovi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hare our movies with other peop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we add video effects to our movie clip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udio, whether it is from a CD, computer recording, or GarageBand has the ability to enhance dramatic moments in a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ce an iMovie is created there are many different methods of distributi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can be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played on a websit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ent via emai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ewed on a compu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urned on a DV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deo effects can be used to alter a clip. Effects can be used to alter the speed of the clip, add special effects to the clip, or turn a clip to black and whit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possible sources of digital audio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icrophone (built into the computer or external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C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video effect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mporting audio into iMovi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effec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ing the movie in a format everyone can view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specific instru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    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Take the next 30 minutes to import audio. Add video effects (if necessary) and transitions to your movies. After 30 minutes we will come back together and shar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audio into iMovie and include it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video effect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hare (export)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06T15:05:50Z</dcterms:modified>
  <cp:revision>21</cp:revision>
  <dc:subject/>
  <dc:title>Workshop Title</dc:title>
</cp:coreProperties>
</file>